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54F0-D984-473A-9708-11A261CFC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6B8-3EEE-4C31-81B3-4DD2806A8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part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601-EC1B-43B9-9145-9584784A9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61C-0A31-441A-B899-660A9FE20E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times 100 r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5ABA-A332-401E-97F6-15C376F69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9FD-FA9B-4B32-B46B-6C9FC466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5EE-34F2-4A46-A282-5285D915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A17-DDD6-4D76-81D9-705B2498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EF9-57B9-46B0-8188-5F5E6973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35E6-FD8F-4444-9705-AAB09817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54A-88AE-4E55-A68F-D66FE914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EC6A-6A43-41FA-9FB6-D22A8636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18B2-ED09-4AD7-A2C6-56366E48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1282-A3AA-4324-ADC8-40679B2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15E3-8ED1-4766-AEF5-DFBCB087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A67-0104-4104-B192-830DD15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42A-0BD8-41FA-98EB-1F082818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9C10-E530-40E7-9497-06A8B25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BD4E-4473-40F9-ADAC-85AE8BD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3D53-449F-4EDD-ADD6-1779578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BA38-24F7-4085-BE45-5CF30405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30D9-F8D6-439C-A9FE-9B1EE607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835A-4BA1-4C0A-9328-195356DC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B30E-8748-4B05-AC1C-49CCD8BC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18F1-31E2-4F06-B3A6-38C3F519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EA6C-8D5D-4EFA-8D34-76A4E05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F936-ED44-4F8C-B0B2-EBAFC842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5F7-0673-4C75-9BA5-EE53716B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38AE-6345-4809-BA77-0856A479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322D-24CC-46C3-B2F1-C8F387E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6705-3654-462B-8321-1C7212A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F6FF-9FA9-4875-8D16-AF294CC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E0B5-6961-4A95-9DFC-08B9F96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1162-237F-4A1C-8B3D-645F7890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4545-977D-410B-98F5-CD3CB36E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B398-97A1-4F19-83D8-B2A7B0B0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DBB3-4C6F-4E0E-9B68-1A1793A4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A91A-F4F2-4872-9445-EFF2BD4F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05A-F340-4605-AF15-5CC8246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D906-C319-4571-9BB4-0B749AAC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0CD8-35FA-4802-AB61-3CFE155F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3070-E2D8-466C-84C3-F2B38FA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4B23-338E-4AAA-8528-E9E3E5D7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4E42-5720-4AB7-B53B-DEC703E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2DCB-8FFE-4701-AB9A-2EFA48E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7B73-3335-4748-8475-C4A094D2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284B-E7CD-4151-90FD-3AD78979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9A60-6233-45BF-93E2-FB71C28E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661E2-BAC5-4BCD-B560-D24BADCE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96C-CF14-464A-9F35-21514ED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E3D1-C378-47EC-BB25-A8CC6A1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6A63-8D2F-4A15-88AD-39C1A8C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9A3FE-B5A0-4057-BA2C-335FA114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6A0A-BA1E-4D8D-A795-05E441A6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D731-EBE3-48FE-B5AE-5135B058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A114-AA15-47E6-B7B9-CE4AF15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7022-C397-4A08-8EAE-7FC6367A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71E0-F4B3-488D-A6B4-D6381128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5122-18A5-4A5B-A0D1-1FAAFF85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C0393-6C91-462F-A1A6-1E2B517F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F01-7E5C-458F-B8C0-847088E7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2623C-D61C-4C7E-B928-FC2A6CCD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86F7-0B40-422F-A1A4-BC9044D8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56B3-6A35-4AC6-A573-A701F5E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FB6A-CCFD-49CC-88C5-F5C48E9F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77279-239F-4189-BF77-7C094CE8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1589-4A6D-419D-8D04-F83052D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C167-9066-4A06-8D53-B601A67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4F33-DF22-4B1F-8CA4-2157471F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D6855-4050-490C-AD93-A60DFE8C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87D76-C902-4FF0-B40C-205A701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68B-32C5-4502-B040-1E7CD145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18AF3-BF68-4558-BD3C-78ED86F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09E5-AFE8-40A6-A2F9-2052BEED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18615-0B2A-49E7-BD33-32AC12E4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61D2E-FB5B-4361-8403-D106E082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0E62A-F970-4EA2-B02C-48661B53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2BD4-F2E5-4D5F-AFAD-55116AF9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518E-0F5F-4E57-8130-A248737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2E8CC-5CBA-413D-912E-8023C45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86C5-9AC4-4DB1-8996-060072C3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4F186-5554-41C6-B1FC-AC9C15C9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181-9241-4316-B68E-573EC27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C9BD1-52C2-4D45-BDA3-18B42857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9CCB-D2C2-4C2B-8761-DDAAB69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AEC4-50FE-40EA-97B2-C3290B2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293E7-06DF-4799-9BBE-710B7A14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AF4A-BF68-4CD9-A800-07E244D2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516-9824-4372-873F-5EE81C3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92A-D181-432A-BCFE-BEA8E4B849D2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4260-EC32-4AD8-8B1A-F0EED897E997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3DF0-3812-441E-8095-84288FE260A7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74B6-1F70-4BD3-B8AB-1E0C6DC83048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1AAB-A7F4-488C-BC76-77F195DF0DBD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C5A1-7B02-4C77-B557-EDDC96A7F88A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5ddc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5d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E787-A34C-445D-9883-BECEB448A666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urriculum.prairiepride.org/Curriculum/MapPage.aspx?overviewID=1406&amp;OverviewTitle=8th%20grade%20language%20arts&amp;Designers=wanderson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csdnewteacher2009-10.wikispaces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w Teacher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636"/>
                </a:solidFill>
                <a:latin typeface="Gill Sans MT"/>
              </a:rPr>
              <a:t>12/7/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C:\Users\ychen\AppData\Local\Microsoft\Windows\Temporary Internet Files\Content.IE5\60M1IPZ6\MPj04433150000[1].jpg"/>
          <p:cNvPicPr/>
          <p:nvPr/>
        </p:nvPicPr>
        <p:blipFill>
          <a:blip r:embed="rId1"/>
          <a:stretch/>
        </p:blipFill>
        <p:spPr>
          <a:xfrm>
            <a:off x="2666880" y="2362320"/>
            <a:ext cx="5034240" cy="334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search Background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ependently read and highlight (10-12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a summary using the Write Tool 101 strategy (15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(Will sample by  calling  group #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ot by default, but by design…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Understanding By Design:</a:t>
            </a:r>
            <a:br>
              <a:rPr sz="4900"/>
            </a:b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Interview Wendy</a:t>
            </a:r>
            <a:endParaRPr b="0" lang="en-US" sz="4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37720" y="2819160"/>
            <a:ext cx="403884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nk/Wh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2819160"/>
            <a:ext cx="40384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ecision/Do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aptured in the map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Wendy’s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ssign rol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1: Evidence of essential understanding/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2: Evidence of high level assessment/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3: Evidence of scaffolding toward final perform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4: Evidence of active cognitive engagement among stu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re and contrast Wendy’s lesson and your research summ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rt on paper using a graphic organiz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All member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Guided Practice</a:t>
            </a:r>
            <a:br>
              <a:rPr sz="43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Keeping the model lesson and </a:t>
            </a:r>
            <a:br>
              <a:rPr sz="36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research in mind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2514600"/>
            <a:ext cx="749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 to Iowa Core –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entury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ministrators coach one or two grou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 up individual map an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1-2 essential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2-5 expanded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10 minutes break. Demo starts at 2:2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ve Demo – Wendy Anders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lesson template to re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moment to write notes 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communicating learning targets to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interactive strategies including CF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students and teac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cont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re with a part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ychen\AppData\Local\Microsoft\Windows\Temporary Internet Files\Content.IE5\WRY5J6MP\MPj04090090000[1].jpg"/>
          <p:cNvPicPr/>
          <p:nvPr/>
        </p:nvPicPr>
        <p:blipFill>
          <a:blip r:embed="rId1"/>
          <a:stretch/>
        </p:blipFill>
        <p:spPr>
          <a:xfrm>
            <a:off x="-190440" y="-2513160"/>
            <a:ext cx="9334440" cy="9371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        </a:t>
            </a: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Line of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2352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 Sans MT"/>
              </a:rPr>
              <a:t>How might the students act differently if the interactive strategies are taken out of the lesson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Guided Practice – 20 minutes</a:t>
            </a:r>
            <a:br>
              <a:rPr sz="3500"/>
            </a:b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incipals and administrators will coach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90720" y="2133360"/>
            <a:ext cx="7696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Wendy’s lesson and the ICC mod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elop a lesson plan using the same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individual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elcome!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lunch and settle 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view your notes/line of learning from past sess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ing by design/Backward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 learning targ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computer ready  for map and tal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now how to access Wi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             </a:t>
            </a: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Peer Coaching</a:t>
            </a:r>
            <a:br>
              <a:rPr sz="3500"/>
            </a:br>
            <a:br>
              <a:rPr sz="3500"/>
            </a:br>
            <a:r>
              <a:rPr b="0" lang="en-US" sz="3200" spc="-1" strike="noStrike">
                <a:solidFill>
                  <a:srgbClr val="6a6363"/>
                </a:solidFill>
                <a:latin typeface="Gill Sans MT"/>
              </a:rPr>
              <a:t>Read each other’s lesson first, then provi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pecific feedbac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is aligned with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 LO of today’s session</a:t>
            </a: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600" y="2743200"/>
            <a:ext cx="610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wo star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ne stretch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urriculum Planning Tool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to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you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you te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ile you collabor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you conference with your principal or men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Expectation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next workshop (January 15)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date your map as you plan, revise or dialogue, applying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scaffolded lessons toward the big idea and skills on the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interactions and CFU throughout the les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Suppor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on the map and lesson with your PP and Men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ference with your principal regarding  your map and less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 –what interactive strategies (including CFU), did you use to keep students cognitively engaged and challenged -  minimum one entry or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74977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ne of Learning 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and Feedback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n </a:t>
            </a:r>
            <a:r>
              <a:rPr b="0" lang="en-US" sz="43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New Teacher Wiki</a:t>
            </a:r>
            <a:br>
              <a:rPr sz="4300"/>
            </a:b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xt New Teacher Workshop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nuary 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cus: Think Aloud and all previous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d year assess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er self-ass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al observation, coaching and feedb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Assessment focuses – </a:t>
            </a: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implementation of the following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pply backward design in unit plan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vidence of scaffolding in maps (expanded skills)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ink learning objectives to map content and skill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ign EDI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bed interactive strategies to cognitively engage students in lear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ned CFU (before, during and after each lesson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hat was helpful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amples of scaffolding in maps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nd explicit model of UBD and 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rofessional level discussion with peers on unit/less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teract with others across the district to see how ideas are use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 with job-alike peers on real units/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eing real lessons and maps helps to put all pieces togethe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Impact on your teaching and planning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ok toward my culminating outcome before I write my lesson objec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LO and skills in my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porat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lan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FU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ities are important in my lessons but skills in maps are about what students will b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ble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s – I see how they can be used in my classro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How to support you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 my lessons and give me targeted feedba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 to have new teacher worksho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We asked you to work with your principal on…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 next workshop - Be prepared to bring a unit (map) and a lesson using the unit/lesson design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UBD/EDI concept reflected in plan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Expanded skill statements in map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ear learning objectives/targets in lesson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Planned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FU before, during and after instr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Debriefing Partner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work wi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know w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partner 1 and 2, including administrato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y with partner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e to front if you are still sear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a6363"/>
                </a:solidFill>
                <a:latin typeface="Arial"/>
              </a:rPr>
              <a:t>MAP and TALK </a:t>
            </a:r>
            <a:r>
              <a:rPr b="0" lang="en-US" sz="4000" spc="-1" strike="noStrike">
                <a:solidFill>
                  <a:srgbClr val="6a6363"/>
                </a:solidFill>
                <a:latin typeface="Arial"/>
              </a:rPr>
              <a:t>(with partner 2)</a:t>
            </a:r>
            <a:endParaRPr b="0" lang="en-US" sz="40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apply Understanding by Design in your map? (Share one essential question with your partne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build scaffolding (Expanded Skills) in your ma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 partner’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s or ins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bjectives of the Day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ticu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ationale of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esson objectives with skills in map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nits and lessons aligned with UBD, clear targets, engagement strategeis and scaffold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ffective interactive strategies in lessons/maps (Include Planned CFU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20:39Z</dcterms:created>
  <dc:creator>ychen</dc:creator>
  <dc:description/>
  <dc:language>en-US</dc:language>
  <cp:lastModifiedBy>ychen</cp:lastModifiedBy>
  <dcterms:modified xsi:type="dcterms:W3CDTF">2009-12-04T23:35:51Z</dcterms:modified>
  <cp:revision>71</cp:revision>
  <dc:subject/>
  <dc:title>New Teacher Learning Series</dc:title>
</cp:coreProperties>
</file>